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1.gif" ContentType="image/gif"/>
  <Override PartName="/ppt/media/image14.png" ContentType="image/png"/>
  <Override PartName="/ppt/media/image10.wmf" ContentType="image/x-wmf"/>
  <Override PartName="/ppt/media/image2.png" ContentType="image/png"/>
  <Override PartName="/ppt/media/image22.gif" ContentType="image/gif"/>
  <Override PartName="/ppt/media/image9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28.gif" ContentType="image/gif"/>
  <Override PartName="/ppt/media/image6.jpeg" ContentType="image/jpeg"/>
  <Override PartName="/ppt/media/image26.wmf" ContentType="image/x-wmf"/>
  <Override PartName="/ppt/media/image4.png" ContentType="image/png"/>
  <Override PartName="/ppt/media/image27.png" ContentType="image/png"/>
  <Override PartName="/ppt/media/image25.wmf" ContentType="image/x-wmf"/>
  <Override PartName="/ppt/media/image24.wmf" ContentType="image/x-wmf"/>
  <Override PartName="/ppt/media/image23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jpeg" ContentType="image/jpe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1B58-E59F-4446-BF9A-594CEBAC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873D-B6D9-4113-9B8C-2180845A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E945-54CA-4FBA-8D3E-84C9E3387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A39F-AC4F-4E3C-AC36-C37F4EAF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B7C6-64B8-4730-BB2D-676AFFE3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1DE9-4BA2-48ED-B7FA-58022DA1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5752-EAE5-4C5F-817F-40D052C8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1B5B-49E3-41AA-A662-50626D34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CE4A-9ED4-443D-9759-D1E56275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7D04-8B8C-40B8-9AE3-A568CD43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E50C-6CE5-4C6A-BFFA-3BD15328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E567-04E1-4909-A515-1CDC4B46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CC63-0440-4CC5-B0C6-8156E2F8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D6AF-6D76-4511-A74D-23A6BC22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AB5E-AC62-48CD-AC5A-2B01B9E1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7C48-57EC-44F0-98A7-4DF15ABFB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6E10-10B7-402B-827F-DDD45EEEA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0FC2C-1C77-4A49-910F-C18D6D816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CFB1A-6198-4F8C-BFC9-B5D1A152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226DB-1F11-47D6-B646-C3F657CF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36FAE-EA5E-4A47-BA81-6E44EB64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C33D7-A72E-4056-B422-1CD5215A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8400-299E-475E-A878-12A4F81B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7EEF8-8AC5-4602-A438-97487518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D6E57-FA55-4D09-9195-24B16AA0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A8F1C-E49F-41E2-B18C-60E89174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DE43D-4191-498B-8644-41168348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6FE01-CE57-4D28-8D71-F5F1A3A4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05376-FB0D-45DD-B40D-8FDE458C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EB09C-8278-4A0F-8D77-016AD0480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6B31F-0A88-43D5-96BC-C8EF1F9C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D5C43-47DD-4C08-BDA9-9F83E924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659F6-3C91-4B88-955B-772AA594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62A7-9965-4465-B061-BBF49A54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D1232-7580-4008-820F-30616524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A7C41-977C-431D-AF91-281F55CC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40914-AE8C-4DD3-91AF-7347A03D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C2AC5-0E48-494E-A508-96FECCD5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F835D-5A05-4A34-8E6D-0242242B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BB39E-CAB8-4ACA-9E5B-936BDD0D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8D9C2-DE19-4B50-958E-01065B29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43867-BB69-47C1-8AD1-DF36CE65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FE73C-C422-4CE6-9AD3-3BEDB2291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18CF6-5C64-40C1-8399-1EB0136B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2B36-FECC-4543-8C82-647199C6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B0870-B3D6-48EC-8C9A-106EDAFC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93666-DE2E-4157-A4FF-0EECC313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79850-48BD-48C6-AF74-255D0836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A5F91-607D-406D-8CED-E69460D7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D2561-F6BB-4B16-B595-F109D54A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E95F2-F189-46C5-A96B-950C557F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C8574-C86B-4007-9CDD-3A4FD87C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47E31-33D9-45F1-B035-C4977C0A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46367-3B28-4728-9BC2-8CE85B0F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ACB34-4EC4-461F-B197-98770104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3C09-6256-46DA-BE38-DB04A037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B0DB4-72BB-4651-8755-7FE86525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61112-3123-4C31-9A84-B9007D35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2DBF5-3266-4431-AB48-E41F9FAF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50A02-11B4-42FE-9E70-89545626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8BA44-9FDB-414C-8214-F2CDA9CA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2B75F-A0BA-476D-8750-2970C58C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94679-F97D-46C5-A254-D4349EF7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9CF09-9FF4-45E9-A03F-D9269DED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64764-E555-414B-970C-42578833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820F5-1C74-4DF9-B439-FA76FD46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0B87-800E-4E37-AB29-7811FB6C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93809-F30B-440B-93B6-3B53DD39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724BD-2ECE-4B96-B3E9-F5A2CDD3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597B2-60BD-400B-9B97-77C41138E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36699-02EB-4978-8AA3-7064EBBE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27DBF-2DD9-4967-8569-A4A30C68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20C63-DFB2-4348-9EFC-4BA53EF8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D212A-AED4-46B1-AEA8-E0920050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875E5-4DA0-4294-ACA6-7DE8AB0B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CD29C-37F1-401C-95C5-2F9582F8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4DC8D-92D9-4EC9-8EB8-5B583C96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3C42-29A5-44EB-9993-83A0DF76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28A6A-D1B4-4E9D-A752-B02FB192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D761B-8731-4972-B1E6-D2988A22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7C443-B1B7-4A7B-A095-872B0C12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9159E-8B47-41BE-8B2A-63AABEE2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19326-A046-4743-9CA3-8F31400FB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0D15A-52BD-4042-92DB-8546F3C0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C6E32-BA90-457F-9700-0D2B2FBC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A2DFC-B6E5-4724-B1C8-F81FE95E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2F512-B0CF-4F44-9F57-1572E9CA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512B5-839C-4D68-A178-0630DF4A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7EB0-3031-4573-B034-C914D701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5E94F-F171-4BA8-8636-00DF4A64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A5BC2-B30F-4884-82AE-50C57C27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0837E-1CE2-4E15-9DF8-F7D18343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52FAB-B92E-4F91-A7B3-3562E85B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40D11-0FB9-47CF-9542-37338238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D6D7B-BB86-44D2-A497-5E730AD3B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A9AB4-2184-41B6-8513-D9D7B3263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DB91-B1CD-436A-A77E-87671A73FEA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FAA0-0D6A-4A4E-87BB-D4F7DD6FF6E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427A-C060-4E4E-A58F-4E9E7CB2D944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3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4197-D2D6-4D17-9ADA-6A8CCB851F7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8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58E9-6AFA-4971-9397-745ED56F4F0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4FB7-8950-457D-B64B-A84BC0FDF6B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A602-2AD9-4E9B-82AA-2D8004BF6C3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3E29-527D-45E9-95D5-AC68CE16CC5F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633240" y="895320"/>
            <a:ext cx="8321760" cy="25797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9" descr="a1"/>
          <p:cNvPicPr/>
          <p:nvPr/>
        </p:nvPicPr>
        <p:blipFill>
          <a:blip r:embed="rId2"/>
          <a:stretch/>
        </p:blipFill>
        <p:spPr>
          <a:xfrm>
            <a:off x="1063800" y="3500280"/>
            <a:ext cx="2936880" cy="3016440"/>
          </a:xfrm>
          <a:prstGeom prst="rect">
            <a:avLst/>
          </a:prstGeom>
          <a:ln w="0">
            <a:noFill/>
          </a:ln>
        </p:spPr>
      </p:pic>
      <p:sp>
        <p:nvSpPr>
          <p:cNvPr id="361" name="Дата 4"/>
          <p:cNvSpPr/>
          <p:nvPr/>
        </p:nvSpPr>
        <p:spPr>
          <a:xfrm>
            <a:off x="2286000" y="500040"/>
            <a:ext cx="327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eaee"/>
                </a:solidFill>
                <a:latin typeface="Times New Roman"/>
                <a:ea typeface="Times New Roman"/>
              </a:rPr>
              <a:t>24 октября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3929040" y="457200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«Чердынская СОШ им. А. Спирина», учитель: Светлана Владимировна Била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Овал 1"/>
          <p:cNvGrpSpPr/>
          <p:nvPr/>
        </p:nvGrpSpPr>
        <p:grpSpPr>
          <a:xfrm>
            <a:off x="1427040" y="2889360"/>
            <a:ext cx="792360" cy="792000"/>
            <a:chOff x="1427040" y="2889360"/>
            <a:chExt cx="792360" cy="792000"/>
          </a:xfrm>
        </p:grpSpPr>
        <p:pic>
          <p:nvPicPr>
            <p:cNvPr id="396" name="Овал 1" descr=""/>
            <p:cNvPicPr/>
            <p:nvPr/>
          </p:nvPicPr>
          <p:blipFill>
            <a:blip r:embed="rId1"/>
            <a:stretch/>
          </p:blipFill>
          <p:spPr>
            <a:xfrm>
              <a:off x="1427040" y="2889360"/>
              <a:ext cx="7923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1593720" y="3022560"/>
              <a:ext cx="4557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27 0.01342 C 0.09254 -0.10777 0.1658 -0.21299 0.26406 -0.22016 C 0.35799 -0.22918 0.44584 -0.14778 0.45174 -0.03006 C 0.4592 0.0784 0.39757 0.17993 0.30938 0.1871 C 0.229 0.19265 0.15261 0.12558 0.1467 0.02429 C 0.1408 -0.06799 0.19219 -0.15494 0.26684 -0.16211 C 0.33594 -0.16743 0.40052 -0.11124 0.40486 -0.02659 C 0.4092 0.0495 0.36823 0.1235 0.3066 0.12766 C 0.25087 0.13298 0.19809 0.08927 0.19358 0.02059 C 0.1908 -0.04093 0.22153 -0.1006 0.26997 -0.10407 C 0.3125 -0.10777 0.35504 -0.07516 0.35799 -0.02266 C 0.36077 0.02244 0.33889 0.06568 0.30347 0.06962 C 0.27431 0.07285 0.2434 0.0532 0.24184 0.01712 C 0.23906 -0.01202 0.25087 -0.04278 0.27275 -0.04625 C 0.29063 -0.04625 0.30816 -0.03908 0.31094 -0.01942 C 0.3125 -0.00647 0.30938 0.00602 0.3007 0.01134 C 0.29636 0.01342 0.2934 0.01342 0.28906 0.01134 E">
                                      <p:cBhvr>
                                        <p:cTn id="86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Овал 4"/>
          <p:cNvSpPr/>
          <p:nvPr/>
        </p:nvSpPr>
        <p:spPr>
          <a:xfrm>
            <a:off x="3581280" y="1828800"/>
            <a:ext cx="990720" cy="838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84 -0.13321 C 0.1007 -0.13321 0.16667 -0.07332 0.16667 -0.00024 C 0.16667 0.08649 0.09375 0.11748 0.04966 0.13066 L -0.0085 0.14431 C -0.05208 0.15749 -0.125 0.19079 -0.125 0.28839 C -0.125 0.3506 -0.05955 0.42183 0.02084 0.42183 C 0.1007 0.42183 0.16667 0.3506 0.16667 0.28839 C 0.16667 0.19079 0.09375 0.15749 0.04966 0.14431 L -0.0085 0.13066 C -0.05208 0.11748 -0.125 0.08649 -0.125 -0.00024 C -0.125 -0.07332 -0.05955 -0.13321 0.02084 -0.13321 Z">
                                      <p:cBhvr>
                                        <p:cTn id="92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401" name="Овал 3"/>
          <p:cNvSpPr/>
          <p:nvPr/>
        </p:nvSpPr>
        <p:spPr>
          <a:xfrm>
            <a:off x="3733920" y="2438280"/>
            <a:ext cx="685800" cy="685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25 -0.00555 L -0.26389 0.38298 L -0.2177 -0.00555 L -0.16857 0.38298 L -0.11961 -0.00555 L -0.07395 0.38298 L -0.02465 -0.00555 L 0.02153 0.38298 L 0.07084 -0.00555 L 0.11945 0.38298 L 0.16563 -0.00555 L 0.21476 0.38298 L 0.26042 -0.00555 L 0.30938 0.38298 L 0.35868 -0.00555 L 0.40486 0.38298 L 0.45417 -0.00555 E">
                                      <p:cBhvr>
                                        <p:cTn id="98" dur="5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Работа на компьютер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3" name="Picture 4" descr="C:\Documents and Settings\Пользователь\Рабочий стол\с1.jpg"/>
          <p:cNvPicPr/>
          <p:nvPr/>
        </p:nvPicPr>
        <p:blipFill>
          <a:blip r:embed="rId1"/>
          <a:stretch/>
        </p:blipFill>
        <p:spPr>
          <a:xfrm>
            <a:off x="1928880" y="2286000"/>
            <a:ext cx="4429080" cy="44290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/>
          <a:srcRect l="5628" t="5484" r="9664" b="41168"/>
          <a:stretch/>
        </p:blipFill>
        <p:spPr>
          <a:xfrm>
            <a:off x="1214280" y="857160"/>
            <a:ext cx="6864480" cy="5538960"/>
          </a:xfrm>
          <a:prstGeom prst="rect">
            <a:avLst/>
          </a:prstGeom>
          <a:ln w="0">
            <a:noFill/>
          </a:ln>
        </p:spPr>
      </p:pic>
      <p:sp>
        <p:nvSpPr>
          <p:cNvPr id="406" name="TextBox 2"/>
          <p:cNvSpPr/>
          <p:nvPr/>
        </p:nvSpPr>
        <p:spPr>
          <a:xfrm>
            <a:off x="2428920" y="500076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З В У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3"/>
          <p:cNvSpPr/>
          <p:nvPr/>
        </p:nvSpPr>
        <p:spPr>
          <a:xfrm>
            <a:off x="4286160" y="500076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З Н 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4"/>
          <p:cNvSpPr/>
          <p:nvPr/>
        </p:nvSpPr>
        <p:spPr>
          <a:xfrm>
            <a:off x="6215040" y="50007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М Ы Ш 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5"/>
          <p:cNvSpPr/>
          <p:nvPr/>
        </p:nvSpPr>
        <p:spPr>
          <a:xfrm>
            <a:off x="192888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 О С И Т Е Л 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6"/>
          <p:cNvSpPr/>
          <p:nvPr/>
        </p:nvSpPr>
        <p:spPr>
          <a:xfrm>
            <a:off x="385776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 И С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7"/>
          <p:cNvSpPr/>
          <p:nvPr/>
        </p:nvSpPr>
        <p:spPr>
          <a:xfrm>
            <a:off x="585792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А З Б У К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j0397224"/>
          <p:cNvPicPr/>
          <p:nvPr/>
        </p:nvPicPr>
        <p:blipFill>
          <a:blip r:embed="rId1"/>
          <a:stretch/>
        </p:blipFill>
        <p:spPr>
          <a:xfrm>
            <a:off x="7286760" y="5214960"/>
            <a:ext cx="1611000" cy="131616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652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лавное, что мы должны понять и запомни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2499840"/>
            <a:ext cx="822960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действие с информацией, обратное кодировани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кодированное сообщение можно декодировать, если известно правило кодирования или имеется кодировочная таблиц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нформацию, которая содержится в закодированном сообщении, человек может получить, только декодировав ег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5" name="Picture 5" descr="j0397202"/>
          <p:cNvPicPr/>
          <p:nvPr/>
        </p:nvPicPr>
        <p:blipFill>
          <a:blip r:embed="rId2"/>
          <a:stretch/>
        </p:blipFill>
        <p:spPr>
          <a:xfrm rot="13644600">
            <a:off x="7907760" y="4469040"/>
            <a:ext cx="1082520" cy="890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10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8" name="Picture 4" descr="j0410909"/>
          <p:cNvPicPr/>
          <p:nvPr/>
        </p:nvPicPr>
        <p:blipFill>
          <a:blip r:embed="rId1"/>
          <a:stretch/>
        </p:blipFill>
        <p:spPr>
          <a:xfrm>
            <a:off x="3000240" y="2786040"/>
            <a:ext cx="3600720" cy="290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Попробуйте дополнить предлож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егодня на уроке я узнал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было интересн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было трудн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Теперь я могу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егодня я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научился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У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меня получилось 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Я попробую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еня удивил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захотелось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2" name="Прямоугольник 3" descr=""/>
          <p:cNvPicPr/>
          <p:nvPr/>
        </p:nvPicPr>
        <p:blipFill>
          <a:blip r:embed="rId1"/>
          <a:stretch/>
        </p:blipFill>
        <p:spPr>
          <a:xfrm>
            <a:off x="633240" y="2225520"/>
            <a:ext cx="7907400" cy="1256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:\Documents and Settings\Пользователь\Рабочий стол\с2.jpg"/>
          <p:cNvPicPr/>
          <p:nvPr/>
        </p:nvPicPr>
        <p:blipFill>
          <a:blip r:embed="rId2"/>
          <a:stretch/>
        </p:blipFill>
        <p:spPr>
          <a:xfrm>
            <a:off x="3357720" y="3571920"/>
            <a:ext cx="2581200" cy="2774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4617b"/>
                </a:solidFill>
                <a:latin typeface="Calibri"/>
              </a:rPr>
              <a:t>Вспомни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чем люди кодируют информацию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ие способы кодирования ты знаеш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меняется ли смысл сообщения при кодировани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каком виде информация запоминается в памяти компьютер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5" name="Picture 5" descr="BD05012_"/>
          <p:cNvPicPr/>
          <p:nvPr/>
        </p:nvPicPr>
        <p:blipFill>
          <a:blip r:embed="rId1"/>
          <a:stretch/>
        </p:blipFill>
        <p:spPr>
          <a:xfrm>
            <a:off x="6715080" y="4572000"/>
            <a:ext cx="1779480" cy="1555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Автогонки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67" name="Picture 2" descr="C:\Documents and Settings\Пользователь\Рабочий стол\с3.jpg"/>
          <p:cNvPicPr/>
          <p:nvPr/>
        </p:nvPicPr>
        <p:blipFill>
          <a:blip r:embed="rId1"/>
          <a:stretch/>
        </p:blipFill>
        <p:spPr>
          <a:xfrm>
            <a:off x="428760" y="2000160"/>
            <a:ext cx="2643120" cy="21672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C:\Documents and Settings\Пользователь\Рабочий стол\с4.gif"/>
          <p:cNvPicPr/>
          <p:nvPr/>
        </p:nvPicPr>
        <p:blipFill>
          <a:blip r:embed="rId2"/>
          <a:stretch/>
        </p:blipFill>
        <p:spPr>
          <a:xfrm>
            <a:off x="2071800" y="3929040"/>
            <a:ext cx="6762600" cy="2536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6" descr="j0210200"/>
          <p:cNvPicPr/>
          <p:nvPr/>
        </p:nvPicPr>
        <p:blipFill>
          <a:blip r:embed="rId1"/>
          <a:stretch/>
        </p:blipFill>
        <p:spPr>
          <a:xfrm>
            <a:off x="920880" y="281160"/>
            <a:ext cx="7016760" cy="62164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1071720" y="2071800"/>
            <a:ext cx="69292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это действие с информацией, обратное кодировани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это, как и кодирование, изменение формы представления информации без изменения смысл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071720" y="1143000"/>
            <a:ext cx="6818040" cy="23162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1357200" y="3571920"/>
            <a:ext cx="6261120" cy="2438280"/>
          </a:xfrm>
          <a:prstGeom prst="rect">
            <a:avLst/>
          </a:prstGeom>
          <a:ln w="0">
            <a:noFill/>
          </a:ln>
        </p:spPr>
      </p:pic>
      <p:cxnSp>
        <p:nvCxnSpPr>
          <p:cNvPr id="373" name="Прямая со стрелкой 8"/>
          <p:cNvCxnSpPr/>
          <p:nvPr/>
        </p:nvCxnSpPr>
        <p:spPr>
          <a:xfrm>
            <a:off x="4143240" y="4428720"/>
            <a:ext cx="157248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4" name="Прямая со стрелкой 10"/>
          <p:cNvCxnSpPr/>
          <p:nvPr/>
        </p:nvCxnSpPr>
        <p:spPr>
          <a:xfrm>
            <a:off x="4143240" y="4857840"/>
            <a:ext cx="1572480" cy="357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5" name="Прямая со стрелкой 12"/>
          <p:cNvCxnSpPr/>
          <p:nvPr/>
        </p:nvCxnSpPr>
        <p:spPr>
          <a:xfrm>
            <a:off x="4143240" y="5214600"/>
            <a:ext cx="1572480" cy="42948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376" name="Прямая со стрелкой 14"/>
          <p:cNvCxnSpPr/>
          <p:nvPr/>
        </p:nvCxnSpPr>
        <p:spPr>
          <a:xfrm flipV="1">
            <a:off x="4143240" y="4785840"/>
            <a:ext cx="1572480" cy="8582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Лента лицом вверх 4"/>
          <p:cNvSpPr/>
          <p:nvPr/>
        </p:nvSpPr>
        <p:spPr>
          <a:xfrm>
            <a:off x="500040" y="5072040"/>
            <a:ext cx="8001000" cy="785880"/>
          </a:xfrm>
          <a:custGeom>
            <a:avLst/>
            <a:gdLst>
              <a:gd name="textAreaLeft" fmla="*/ 1320480 w 8001000"/>
              <a:gd name="textAreaRight" fmla="*/ 6680520 w 8001000"/>
              <a:gd name="textAreaTop" fmla="*/ 0 h 785880"/>
              <a:gd name="textAreaBottom" fmla="*/ 655200 h 785880"/>
            </a:gdLst>
            <a:ahLst/>
            <a:rect l="textAreaLeft" t="textAreaTop" r="textAreaRight" b="textAreaBottom"/>
            <a:pathLst>
              <a:path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1150"/>
                  <a:pt x="5845" y="21600"/>
                  <a:pt x="5425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3565" y="3600"/>
                </a:lnTo>
                <a:lnTo>
                  <a:pt x="3565" y="900"/>
                </a:lnTo>
                <a:cubicBezTo>
                  <a:pt x="3565" y="450"/>
                  <a:pt x="3985" y="0"/>
                  <a:pt x="4405" y="0"/>
                </a:cubicBezTo>
                <a:lnTo>
                  <a:pt x="17195" y="0"/>
                </a:lnTo>
                <a:cubicBezTo>
                  <a:pt x="17615" y="0"/>
                  <a:pt x="18035" y="450"/>
                  <a:pt x="18035" y="900"/>
                </a:cubicBezTo>
                <a:lnTo>
                  <a:pt x="18035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175" y="21600"/>
                </a:lnTo>
                <a:cubicBezTo>
                  <a:pt x="15755" y="21600"/>
                  <a:pt x="15335" y="21150"/>
                  <a:pt x="15335" y="20700"/>
                </a:cubicBezTo>
                <a:lnTo>
                  <a:pt x="15335" y="18000"/>
                </a:lnTo>
                <a:close/>
              </a:path>
              <a:path fill="darkenLess"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0250"/>
                  <a:pt x="5845" y="19800"/>
                  <a:pt x="5425" y="19800"/>
                </a:cubicBezTo>
                <a:lnTo>
                  <a:pt x="4405" y="19800"/>
                </a:lnTo>
                <a:cubicBezTo>
                  <a:pt x="3985" y="19800"/>
                  <a:pt x="3565" y="19350"/>
                  <a:pt x="3565" y="18900"/>
                </a:cubicBezTo>
                <a:cubicBezTo>
                  <a:pt x="3565" y="18450"/>
                  <a:pt x="3985" y="18000"/>
                  <a:pt x="4405" y="18000"/>
                </a:cubicBezTo>
                <a:close/>
              </a:path>
              <a:path fill="darkenLess" w="21600" h="21600">
                <a:moveTo>
                  <a:pt x="15335" y="18000"/>
                </a:moveTo>
                <a:lnTo>
                  <a:pt x="15335" y="20700"/>
                </a:lnTo>
                <a:cubicBezTo>
                  <a:pt x="15335" y="20250"/>
                  <a:pt x="15755" y="19800"/>
                  <a:pt x="16175" y="19800"/>
                </a:cubicBezTo>
                <a:lnTo>
                  <a:pt x="17195" y="19800"/>
                </a:lnTo>
                <a:cubicBezTo>
                  <a:pt x="17615" y="19800"/>
                  <a:pt x="18035" y="19350"/>
                  <a:pt x="18035" y="18900"/>
                </a:cubicBezTo>
                <a:cubicBezTo>
                  <a:pt x="18035" y="18450"/>
                  <a:pt x="17615" y="18000"/>
                  <a:pt x="17195" y="18000"/>
                </a:cubicBezTo>
                <a:close/>
              </a:path>
              <a:path fill="darkenLess" w="21600" h="21600">
                <a:moveTo>
                  <a:pt x="3565" y="18900"/>
                </a:moveTo>
                <a:lnTo>
                  <a:pt x="3565" y="3600"/>
                </a:lnTo>
              </a:path>
              <a:path fill="darkenLess" w="21600" h="21600">
                <a:moveTo>
                  <a:pt x="18035" y="18900"/>
                </a:moveTo>
                <a:lnTo>
                  <a:pt x="18035" y="3600"/>
                </a:lnTo>
              </a:path>
            </a:pathLst>
          </a:custGeom>
          <a:solidFill>
            <a:srgbClr val="94f7d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Лента лицом вверх 3"/>
          <p:cNvSpPr/>
          <p:nvPr/>
        </p:nvSpPr>
        <p:spPr>
          <a:xfrm>
            <a:off x="500040" y="928800"/>
            <a:ext cx="8001000" cy="785880"/>
          </a:xfrm>
          <a:custGeom>
            <a:avLst/>
            <a:gdLst>
              <a:gd name="textAreaLeft" fmla="*/ 1320480 w 8001000"/>
              <a:gd name="textAreaRight" fmla="*/ 6680520 w 8001000"/>
              <a:gd name="textAreaTop" fmla="*/ 0 h 785880"/>
              <a:gd name="textAreaBottom" fmla="*/ 655200 h 785880"/>
            </a:gdLst>
            <a:ahLst/>
            <a:rect l="textAreaLeft" t="textAreaTop" r="textAreaRight" b="textAreaBottom"/>
            <a:pathLst>
              <a:path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1150"/>
                  <a:pt x="5845" y="21600"/>
                  <a:pt x="5425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3565" y="3600"/>
                </a:lnTo>
                <a:lnTo>
                  <a:pt x="3565" y="900"/>
                </a:lnTo>
                <a:cubicBezTo>
                  <a:pt x="3565" y="450"/>
                  <a:pt x="3985" y="0"/>
                  <a:pt x="4405" y="0"/>
                </a:cubicBezTo>
                <a:lnTo>
                  <a:pt x="17195" y="0"/>
                </a:lnTo>
                <a:cubicBezTo>
                  <a:pt x="17615" y="0"/>
                  <a:pt x="18035" y="450"/>
                  <a:pt x="18035" y="900"/>
                </a:cubicBezTo>
                <a:lnTo>
                  <a:pt x="18035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175" y="21600"/>
                </a:lnTo>
                <a:cubicBezTo>
                  <a:pt x="15755" y="21600"/>
                  <a:pt x="15335" y="21150"/>
                  <a:pt x="15335" y="20700"/>
                </a:cubicBezTo>
                <a:lnTo>
                  <a:pt x="15335" y="18000"/>
                </a:lnTo>
                <a:close/>
              </a:path>
              <a:path fill="darkenLess"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0250"/>
                  <a:pt x="5845" y="19800"/>
                  <a:pt x="5425" y="19800"/>
                </a:cubicBezTo>
                <a:lnTo>
                  <a:pt x="4405" y="19800"/>
                </a:lnTo>
                <a:cubicBezTo>
                  <a:pt x="3985" y="19800"/>
                  <a:pt x="3565" y="19350"/>
                  <a:pt x="3565" y="18900"/>
                </a:cubicBezTo>
                <a:cubicBezTo>
                  <a:pt x="3565" y="18450"/>
                  <a:pt x="3985" y="18000"/>
                  <a:pt x="4405" y="18000"/>
                </a:cubicBezTo>
                <a:close/>
              </a:path>
              <a:path fill="darkenLess" w="21600" h="21600">
                <a:moveTo>
                  <a:pt x="15335" y="18000"/>
                </a:moveTo>
                <a:lnTo>
                  <a:pt x="15335" y="20700"/>
                </a:lnTo>
                <a:cubicBezTo>
                  <a:pt x="15335" y="20250"/>
                  <a:pt x="15755" y="19800"/>
                  <a:pt x="16175" y="19800"/>
                </a:cubicBezTo>
                <a:lnTo>
                  <a:pt x="17195" y="19800"/>
                </a:lnTo>
                <a:cubicBezTo>
                  <a:pt x="17615" y="19800"/>
                  <a:pt x="18035" y="19350"/>
                  <a:pt x="18035" y="18900"/>
                </a:cubicBezTo>
                <a:cubicBezTo>
                  <a:pt x="18035" y="18450"/>
                  <a:pt x="17615" y="18000"/>
                  <a:pt x="17195" y="18000"/>
                </a:cubicBezTo>
                <a:close/>
              </a:path>
              <a:path fill="darkenLess" w="21600" h="21600">
                <a:moveTo>
                  <a:pt x="3565" y="18900"/>
                </a:moveTo>
                <a:lnTo>
                  <a:pt x="3565" y="3600"/>
                </a:lnTo>
              </a:path>
              <a:path fill="darkenLess" w="21600" h="21600">
                <a:moveTo>
                  <a:pt x="18035" y="18900"/>
                </a:moveTo>
                <a:lnTo>
                  <a:pt x="18035" y="3600"/>
                </a:lnTo>
              </a:path>
            </a:pathLst>
          </a:custGeom>
          <a:solidFill>
            <a:srgbClr val="94f7d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856880" y="928800"/>
            <a:ext cx="5286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01 19 20 07 20  20 18 01 03 0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А С Т Ё Т   Т Р А В 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rcRect l="4294" t="65475" r="7156" b="11390"/>
          <a:stretch/>
        </p:blipFill>
        <p:spPr>
          <a:xfrm>
            <a:off x="642960" y="1928880"/>
            <a:ext cx="8039160" cy="2786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rcRect l="5204" t="5798" r="6053" b="63892"/>
          <a:stretch/>
        </p:blipFill>
        <p:spPr>
          <a:xfrm>
            <a:off x="2428920" y="714240"/>
            <a:ext cx="6286320" cy="28479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"/>
          <p:cNvPicPr/>
          <p:nvPr/>
        </p:nvPicPr>
        <p:blipFill>
          <a:blip r:embed="rId2"/>
          <a:srcRect l="5194" t="65475" r="6810" b="11390"/>
          <a:stretch/>
        </p:blipFill>
        <p:spPr>
          <a:xfrm>
            <a:off x="785880" y="3429000"/>
            <a:ext cx="7929360" cy="2765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j0404643"/>
          <p:cNvPicPr/>
          <p:nvPr/>
        </p:nvPicPr>
        <p:blipFill>
          <a:blip r:embed="rId3"/>
          <a:stretch/>
        </p:blipFill>
        <p:spPr>
          <a:xfrm>
            <a:off x="357120" y="1500120"/>
            <a:ext cx="1924200" cy="1677960"/>
          </a:xfrm>
          <a:prstGeom prst="rect">
            <a:avLst/>
          </a:prstGeom>
          <a:ln w="0">
            <a:noFill/>
          </a:ln>
        </p:spPr>
      </p:pic>
      <p:sp>
        <p:nvSpPr>
          <p:cNvPr id="384" name="TextBox 4"/>
          <p:cNvSpPr/>
          <p:nvPr/>
        </p:nvSpPr>
        <p:spPr>
          <a:xfrm>
            <a:off x="3571920" y="20001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О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6"/>
          <p:cNvSpPr/>
          <p:nvPr/>
        </p:nvSpPr>
        <p:spPr>
          <a:xfrm>
            <a:off x="5429160" y="20001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О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7"/>
          <p:cNvSpPr/>
          <p:nvPr/>
        </p:nvSpPr>
        <p:spPr>
          <a:xfrm>
            <a:off x="7286760" y="198756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И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8"/>
          <p:cNvSpPr/>
          <p:nvPr/>
        </p:nvSpPr>
        <p:spPr>
          <a:xfrm>
            <a:off x="350028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Х Л Е 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9"/>
          <p:cNvSpPr/>
          <p:nvPr/>
        </p:nvSpPr>
        <p:spPr>
          <a:xfrm>
            <a:off x="528624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З Н 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0"/>
          <p:cNvSpPr/>
          <p:nvPr/>
        </p:nvSpPr>
        <p:spPr>
          <a:xfrm>
            <a:off x="692928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З В У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9dd9"/>
                </a:solidFill>
                <a:latin typeface="Constantia"/>
              </a:rPr>
              <a:t>Минутка отдыха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Овал 1"/>
          <p:cNvGrpSpPr/>
          <p:nvPr/>
        </p:nvGrpSpPr>
        <p:grpSpPr>
          <a:xfrm>
            <a:off x="2852640" y="1749600"/>
            <a:ext cx="792360" cy="860400"/>
            <a:chOff x="2852640" y="1749600"/>
            <a:chExt cx="792360" cy="860400"/>
          </a:xfrm>
        </p:grpSpPr>
        <p:pic>
          <p:nvPicPr>
            <p:cNvPr id="393" name="Овал 1" descr=""/>
            <p:cNvPicPr/>
            <p:nvPr/>
          </p:nvPicPr>
          <p:blipFill>
            <a:blip r:embed="rId1"/>
            <a:stretch/>
          </p:blipFill>
          <p:spPr>
            <a:xfrm>
              <a:off x="2852640" y="1749600"/>
              <a:ext cx="79236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3022560" y="1890720"/>
              <a:ext cx="4557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521 0.16998 C 0.31129 0.02336 0.23629 -0.10384 0.13577 -0.11263 C 0.03959 -0.1235 -0.05017 -0.02474 -0.05625 0.11772 C -0.06371 0.24884 -0.000689999999999996 0.37188 0.08941 0.38067 C 0.1717 0.38714 0.24983 0.30527 0.25573 0.1834 C 0.26181 0.07169 0.2092 -0.03353 0.13281 -0.04278 C 0.06233 -0.04903 -0.00382 0.0192 -0.00833 0.12188 C -0.01267 0.21369 0.02917 0.30342 0.09219 0.30805 C 0.14931 0.31452 0.20313 0.26203 0.20781 0.17877 C 0.21077 0.1043 0.17917 0.03215 0.12969 0.02798 C 0.08629 0.02336 0.04271 0.06291 0.03959 0.1265 C 0.03681 0.18108 0.0592 0.23358 0.09531 0.23821 C 0.12535 0.24237 0.15677 0.21832 0.15834 0.17461 C 0.16129 0.13922 0.14931 0.10199 0.12691 0.09783 C 0.10868 0.09783 0.09063 0.10662 0.08785 0.13067 C 0.08629 0.14616 0.08941 0.16143 0.09827 0.1679 C 0.10261 0.16998 0.10573 0.16998 0.11025 0.1679 E">
                                      <p:cBhvr>
                                        <p:cTn id="80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7:35:54Z</dcterms:created>
  <dc:creator>1</dc:creator>
  <dc:description/>
  <dc:language>en-US</dc:language>
  <cp:lastModifiedBy>Пользователь</cp:lastModifiedBy>
  <dcterms:modified xsi:type="dcterms:W3CDTF">2012-10-24T04:41:13Z</dcterms:modified>
  <cp:revision>19</cp:revision>
  <dc:subject/>
  <dc:title>Декодирование информации</dc:title>
</cp:coreProperties>
</file>